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5F4-C540-457E-AAA0-14452D5F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1356-C778-4461-983F-00C8BB84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D06E-634B-4877-8C8B-4224DA27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F61A-C7D3-4052-8BE7-B0B8A553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F2C3-6A23-4C3B-8EAD-C7E14820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683F-4A55-4558-A6DD-BBFC7B4F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3D48-5494-4DCE-995A-72E094F2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B00E-DEBB-4409-9477-C2C6B248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46E4-65D5-44D8-A44D-70519F50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274-C412-493D-91D6-450E6DF6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F2CF-9CD5-445C-8615-1F18D476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791-BCB8-48B2-8247-2D223B65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AA40-2D29-49DE-9F2F-A78FEC674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56000" y="4797360"/>
            <a:ext cx="37432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Sesiunea iunie - iuli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5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2110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b3s5</cp:lastModifiedBy>
  <dcterms:modified xsi:type="dcterms:W3CDTF">2012-06-18T11:05:40Z</dcterms:modified>
  <cp:revision>30</cp:revision>
  <dc:subject/>
  <dc:title>SALARIUL</dc:title>
</cp:coreProperties>
</file>